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phosphat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7280" y="54936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phosphat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101" idx="1"/>
          </p:cNvCxnSpPr>
          <p:nvPr/>
        </p:nvCxnSpPr>
        <p:spPr>
          <a:xfrm flipV="1">
            <a:off x="3313080" y="2729520"/>
            <a:ext cx="2699280" cy="13528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98" idx="3"/>
            <a:endCxn id="103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ranslok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8" idx="3"/>
            <a:endCxn id="104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Zufuhr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usschei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8" idx="3"/>
            <a:endCxn id="10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sschei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88200" y="549360"/>
            <a:ext cx="40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phosphat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schei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urisches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ligurisch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ierenversa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urisches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oligurisch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Nierenversa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86760" y="549360"/>
            <a:ext cx="69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phosphat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schei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nurisches/oligurisch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Nierenversa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sch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ptospir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ufnahme von Toxi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Ethylenglyko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Rosinen, Weintrauben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erminales Stadium ei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hronischen Nieren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ufuhr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5120" y="5493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phosphat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Zufuhr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8" idx="3"/>
            <a:endCxn id="12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osphathaltige Einläuf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nslok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99"/>
                </a:solidFill>
                <a:latin typeface="Arial"/>
              </a:rPr>
              <a:t>in vitr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 viv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3" idx="3"/>
            <a:endCxn id="12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7" name=""/>
          <p:cNvCxnSpPr>
            <a:stCxn id="123" idx="3"/>
            <a:endCxn id="12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915840" y="54936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phosphat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Translok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31" idx="3"/>
            <a:endCxn id="132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 vitr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u lang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ehenlas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n Voll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5920" y="54936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erphosphat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Translokation &gt; </a:t>
            </a:r>
            <a:r>
              <a:rPr b="1" i="1" lang="de-DE" sz="1800" spc="-1" strike="noStrike">
                <a:solidFill>
                  <a:srgbClr val="333399"/>
                </a:solidFill>
                <a:latin typeface="Arial"/>
              </a:rPr>
              <a:t>in vitr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 viv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5920" y="549360"/>
            <a:ext cx="512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erphosphat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Translokation &gt; </a:t>
            </a:r>
            <a:r>
              <a:rPr b="1" i="1" lang="de-DE" sz="1800" spc="-1" strike="noStrike">
                <a:solidFill>
                  <a:srgbClr val="333399"/>
                </a:solidFill>
                <a:latin typeface="Arial"/>
              </a:rPr>
              <a:t>in viv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3"/>
            <a:endCxn id="13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assive Zell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durch Trauma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Reperfusionssyndr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Osteoly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Gregor und Steffi</cp:lastModifiedBy>
  <cp:lastPrinted>1999-05-13T12:26:48Z</cp:lastPrinted>
  <dcterms:modified xsi:type="dcterms:W3CDTF">2008-10-17T14:58:37Z</dcterms:modified>
  <cp:revision>327</cp:revision>
  <dc:subject/>
  <dc:title>Vorstellung einer Neuheit</dc:title>
</cp:coreProperties>
</file>